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E035-E502-4C8F-96A4-0CB4B3966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5AFD-01F8-4F91-8291-249E1372C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CEEC-344D-418E-B8E2-48BD407DA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6A5-5313-4A77-8341-7586D208F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4B72-9178-40EA-B34F-59D34DECA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D83B-2160-4383-B253-DEB76AEE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1C9C-DDAC-48D3-BD3E-3052915EB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EFF9-0B21-4CE6-A241-585CA6E1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B371-1D81-46BC-925A-F5E3D03BE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EBCF-B9EA-4548-85B7-4E8E19715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D65E-111A-4FE3-864B-33A251F84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FC84-8FC0-4F4F-82F9-AF9F25199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7309-484C-4AFB-A937-086E389D3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4CB2-4164-4FC4-8C63-CBC5E6F2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C70B-9BEA-4B00-A5F2-0E542E10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B356-E177-46FB-A4D1-BED4E9C71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5118-CB1D-4EAA-9C15-456FBBD5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0726-E28A-4DA0-BAB6-02DB0075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251A-AB13-48E7-BE0E-A278F740C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D8BB-B15A-4CCD-A036-28FA0FEF97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21A4-E224-41D2-A36D-E160BB5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C9B2-63B7-4D4C-8301-6D760292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D79D-6936-460D-A9F6-09C5A900F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E6912-C5A0-4C01-B1ED-1590586FB6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24E44-954A-41C8-86FD-EF94CF9A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69443-2394-4E33-8754-07B1CD3C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5AFC1-BEA4-4FF2-A1EC-C39FD3FB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CC782-AF74-4CA0-B900-C5916C7C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88C02-6DBA-46EF-A549-15E1D59B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A4482-6952-4C24-8FF9-804915DF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360F-F399-4DC7-B585-F81B6FAD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F90A3-E86D-4907-850A-B70BC714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725A6-D15C-4EDC-A018-C6095188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F4E41-857F-4225-B24D-22D611A9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AD444-06A7-419F-9A53-B58003CD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4D72E-198D-4D48-9FB8-A9CE5A207F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666C-8B6F-4C9A-8C5D-4262B7CC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4D5C-A55E-48C0-8B68-CAD0ADB3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4690-49E7-4A4A-B956-2ABBDFCE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475B-80D7-4FD4-9D8B-6741570B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AE19-923B-4A1E-B9A0-5308592C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F8F6-87FB-4B84-A48C-2C7F2056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8DEC-4E58-4C61-8975-20FFFA1A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background"/>
          <p:cNvPicPr/>
          <p:nvPr/>
        </p:nvPicPr>
        <p:blipFill>
          <a:blip r:embed="rId2"/>
          <a:srcRect l="5701" t="0" r="877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66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D115-CE87-468E-AE4F-83F8B82B8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_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FAFB-848E-4195-A401-667746B8E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19720" y="2130120"/>
            <a:ext cx="449568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971c"/>
                </a:solidFill>
                <a:latin typeface="Arial"/>
              </a:rPr>
              <a:t>Transitioning to Life After Residenc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dc3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dc3"/>
                </a:solidFill>
                <a:latin typeface="Arial"/>
              </a:rPr>
              <a:t>Lorna Linds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Medical Socie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Placement Servic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istings Not Servi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ust Be Memb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Job Open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Physicians’ Names           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(Some Provide Abbreviated CV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scover Opportunities &amp; Make Yourself Known Through Word Of Mou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ttending Physicians &amp; Former Resid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llied Health Professions And Pharmaceutical Representati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roductions Serve As Impli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rivate Placement Servic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gency Personnel Find &amp; Pursue Opportunities For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taffed By Motivated Profession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ree – Fees Paid By Emplo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gwork Done For Yo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Evaluating Search Fi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How Long In Busin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Who Pays Fe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Geographic Coverage Are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ypes Of Practices Represen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Guaranteed Confidentialit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an you talk with physicians previously placed by the fir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al World Exper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verse Practice Sett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Variety Of Lo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chedule That Fits Your Lifesty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ool For Locating Practice Opport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roadens Clinical Exp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head-Free In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reedom &amp; Flex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Malpractice Insur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ypes of Coverag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ims Ma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ccurren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overage Limi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 Claim And Aggreg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icens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ates Have Different Rules And Regul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sts Diff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cessing Time Var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et Notarized Copies Of Important Docu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DEA Registration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llow Time For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st Office Cannot Forward Renewal Pack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No Grace Period For Renew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pires After Three Ye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hoosing Your Pract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ne Of The Most Important Decisions Of Your Care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Never Too Soon To Gather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ver 50% Of Young Physicians Change Practices Within Two Years Of Trai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Know And Understand Your Op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egin With Goals And Work Backw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Understa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o You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You Like To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yers Briggs Type Indicator T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dispensable To Self-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vailable For Self-Administration On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wo Levels Of Self-Examin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1 – Introsp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undamentals Of Who You Are And How You Like To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 You Live to Work Or Work To Li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2 – External Fac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Your Job Allow You To Pursue Hobbies And Personal Interest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ney/Time-Of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search/Time With Pati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hie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utonomy And Pow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dom And Secu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estige And Recogn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ork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pecial Medical Intere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ersonal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pouse’s Expec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mands Of Practice vs. Demands Of Spo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/She Satisfied With Loca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amily Ne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cial 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lder C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terests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ligion – Education - Recre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ools For Loc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Practice Opportuni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rect Mail Adverti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rch Fi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ciety/Residency Program Placement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acticeMa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esigned To Generate Lea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Do Not Provide Actual Job Descrip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General Medical Journ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tate &amp; County Medical Society Periodic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pecialty Clinical Publica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y Already Be Fil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irect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pidly Growing Re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Jobs Are Curr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ster Form Of Commun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Key To Success – Taking &amp; Sustaining Initi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egwork Requi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58:01Z</dcterms:created>
  <dc:creator>Lorna Lindsey</dc:creator>
  <dc:description/>
  <dc:language>en-US</dc:language>
  <cp:lastModifiedBy>lthomas</cp:lastModifiedBy>
  <dcterms:modified xsi:type="dcterms:W3CDTF">2009-12-29T17:30:23Z</dcterms:modified>
  <cp:revision>7</cp:revision>
  <dc:subject/>
  <dc:title>Slide 1</dc:title>
</cp:coreProperties>
</file>